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445E8-5AFA-4EF0-9409-1D97EE12C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E6746-4F97-47BA-B4F7-DB6FC90ED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0468-987E-472E-94B8-82416E643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B025-07CF-475C-8700-32C46220B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E266C-554D-4866-9E08-F903A0538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CF606-E7BF-4341-B2FD-65BA7B07B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73D9F-9729-44BE-8C2E-AA13B7AA2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A737C-7B82-4E31-A724-5F969C8FB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89C79-ACB5-46E1-AA8B-B1ABD9095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2D64-E020-4434-9685-0C2EB5B80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D81F4-ADD7-47FE-B426-28464D718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285F-384B-4287-BEF7-E3D11126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F6840-1DD3-4A1E-965C-4A97E3F1B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E967-E49B-4FD9-A18D-079D0E6A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8E392-27F1-4A37-AC1F-6E82C7411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26040-7675-49EC-B578-2E7BF75A5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BBDF6-C3AA-4842-BD60-858B1FF0C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E19E-D8F2-4C57-8370-207CD3304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487EB-4626-4224-AF59-1611493B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A45CE-8218-4F8F-9EF1-F7B63260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0502-85D1-41F3-A305-D54C67D6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5883-F728-4B15-89F0-B44B881F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9DA3-6435-429C-AB37-47863588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FC7A-6603-4232-A80E-580939334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9516-C07E-4A45-A51A-1FB8A5B62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42F2-AB62-4EFF-9F53-352BE6F71D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Gettysburg Addres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by Abraham Lincoln</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llusion</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447560"/>
            <a:ext cx="8007480" cy="51051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lusion is a reference to a work of literature, or to a person, place, or event outside of literature, with which a writer to speaker expects an audience to be famili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ur score and seven years ago” is an allusion to the American Revoluti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allusion is to link the image of freedom from the American Revolution to the freedom of all Americans as the purpose of the Civil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aphora and Epistrophe</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5120"/>
            <a:ext cx="80074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cannot dedicate… we cannot consecrate... we cannot hallow this ground.” This is an example of an anaphora where “we cannot” is repeated at the beginning of each phra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vernment of the people, by the people, for the people” This is an example of an epistrophe because “the people” is repeated at the end of each phras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using an anaphora and an epistrophe is to establish a rhythm which produces a strong emotional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ification</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676160"/>
            <a:ext cx="80074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iton is a metaphor in which either an inanimate object or an abstract concept is described as being endowed with human attributes, powers, or feeling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nation might live” this is an example of personification, a nation given lif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tion is used to give vivid images to the audience so that they are able to rel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yndeton</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6479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deton is the deliberate omission of conjunctions between a series of related clauses, phrases, or word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vernment of the people, by the people, for the people” is an example of an asyndeton because there are no conjunctions used where there are suppose to be conjunc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using an asyndeton is to produce a hurried rhythm and an emotional re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sentation By:</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ey Kavela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 Dy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x Loc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peaker: Abraham Lincoln</a:t>
            </a:r>
            <a:endParaRPr b="1" lang="en-US" sz="4400" spc="-1" strike="noStrike">
              <a:solidFill>
                <a:srgbClr val="ffffb7"/>
              </a:solidFill>
              <a:latin typeface="Arial Black"/>
            </a:endParaRPr>
          </a:p>
        </p:txBody>
      </p:sp>
      <p:sp>
        <p:nvSpPr>
          <p:cNvPr id="101" name="PlaceHolder 2"/>
          <p:cNvSpPr>
            <a:spLocks noGrp="1"/>
          </p:cNvSpPr>
          <p:nvPr>
            <p:ph/>
          </p:nvPr>
        </p:nvSpPr>
        <p:spPr>
          <a:xfrm>
            <a:off x="228240" y="1904760"/>
            <a:ext cx="47242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th President of the United Sta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ch given during the Civil W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 1861-186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War:1861-1865</a:t>
            </a:r>
            <a:endParaRPr b="0" lang="en-US" sz="3200" spc="-1" strike="noStrike">
              <a:solidFill>
                <a:srgbClr val="ffffff"/>
              </a:solidFill>
              <a:latin typeface="Arial"/>
            </a:endParaRPr>
          </a:p>
        </p:txBody>
      </p:sp>
      <p:pic>
        <p:nvPicPr>
          <p:cNvPr id="102" name="" descr=""/>
          <p:cNvPicPr/>
          <p:nvPr/>
        </p:nvPicPr>
        <p:blipFill>
          <a:blip r:embed="rId1"/>
          <a:stretch/>
        </p:blipFill>
        <p:spPr>
          <a:xfrm>
            <a:off x="5029200" y="1523880"/>
            <a:ext cx="3809880" cy="504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rpose: To honor those who died in the Civil War.</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gave the Gettysburg Address on the battlefield at Gettysburg during the dedication of the Gettysburg cemete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was trying to portray the purpose of the war and the brave men fighting and dying for freed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dience: American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is talking to American citizens in 1863 about the Civil War that is taking place in their count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s are suppose to realize what the Union is fighting for and how important the lives lost are to gaining true freedom throughout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dium: Outside Venue</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Lincoln presents the Gettysburg Address at the battlefield where all of the soldiers had been fight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peaks to a large crowd that are very much impacted by the representation and effect of the speech at the Gettysburg cemetery ded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gos- Appeal to Logic</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523520"/>
            <a:ext cx="800748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os is found in the Gettysburg Address when Lincoln says, “We have come to dedicate a portion of that field as a final resting place for those who here gave their lives that that nation might live. It is altogether fitting and proper that we should do thi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logical that it is “fitting and proper” that the battleground cemetery be dedicated to the soldiers who gave their lives at the battlegrou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thos- Appeal to Audience’s Emotion</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5120"/>
            <a:ext cx="800748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Gettysburg Address, Abraham Lincoln uses “we” instead of “I” when speaking. This appeals to the audience’s emotion because Lincoln is including the audience in the way he feels about the Civil War and the people who are fighting, making the audience believe that they feel the same way that he d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thos- Appeal to Speaker’s Credibility</a:t>
            </a:r>
            <a:endParaRPr b="1" lang="en-US" sz="4400" spc="-1" strike="noStrike">
              <a:solidFill>
                <a:srgbClr val="ffffb7"/>
              </a:solidFill>
              <a:latin typeface="Arial Black"/>
            </a:endParaRPr>
          </a:p>
        </p:txBody>
      </p:sp>
      <p:sp>
        <p:nvSpPr>
          <p:cNvPr id="114" name="PlaceHolder 2"/>
          <p:cNvSpPr>
            <a:spLocks noGrp="1"/>
          </p:cNvSpPr>
          <p:nvPr>
            <p:ph/>
          </p:nvPr>
        </p:nvSpPr>
        <p:spPr>
          <a:xfrm>
            <a:off x="762120" y="1828800"/>
            <a:ext cx="8007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ettysburg Address was given, Abraham Lincoln was the President of the United States. He was President during the duration of the war. This makes him credible because he knows why the war is taking place and the goal of freedom that is being obtained. His beliefs are the reason that the war is going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ythos- Appeal to Tradition</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ur fathers brought forth upon this continent a new nation: conceived in liberty, and dedicated to the proposition that all men are created equ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se honored dea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examples of mythos because they are relating to the past and how things have always be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thos is used to make the audience think that violating tradition is not appropria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20:38:49Z</dcterms:created>
  <dc:creator>Haley</dc:creator>
  <dc:description/>
  <dc:language>en-US</dc:language>
  <cp:lastModifiedBy>Haley</cp:lastModifiedBy>
  <dcterms:modified xsi:type="dcterms:W3CDTF">2008-04-13T18:14:54Z</dcterms:modified>
  <cp:revision>11</cp:revision>
  <dc:subject/>
  <dc:title>Slide 1</dc:title>
</cp:coreProperties>
</file>